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5680" y="612720"/>
            <a:ext cx="4751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GITAL KEY TELEPHONE SYSTEM / SLT User Guide  LDK-300/300E/100/24/20,GDK-162/100/FPII/16/20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6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  <a:tab algn="l" pos="1058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592360" y="1050840"/>
            <a:ext cx="23605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Wait (Camp-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receiving intercom busy tone, dial *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In LDK-300/300E/100/24/20, GDK-16/20W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flash and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mp-on tone is heard in the called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called party answers, talk or hang up t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ransfer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aking a Screened 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line, p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 and wait to b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nounce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aking an Unscreened 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line, p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Last Number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Storing Station Speed Dial Nu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5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speed dial number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000~099 in LDK-300/300E/100/24/20,00~19 in GDK-162/100/FPII/GDK-16(Above V4.0) / GDK-20W(Above V3.0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* 01~20 : GDK-16(V1.0~V3.0), 20W (V1.0~V2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speed dial number you wish to stor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Using Station Speed Dial Nu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speed dial number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000~099 in LDK-300/300E/100/24/20,00~19 in GDK-162/100/FPII/GDK-16(Above V4.0) / GDK-20W(Above V3.0)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* 01~20 : GDK-16(V1.0~V3.0), 20W (V1.0~V2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Group Call Pick-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hearing an unattended phone ringing in your area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be connected to an incoming extension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utside line call. (You should be in the same pick-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roup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1050840"/>
            <a:ext cx="237168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Outsid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 In the following countries, dial 0 to acces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CO line:Finland/Brazil/Norway/Netherlands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Belgium/Denmark/Spain/Italy)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Intercom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intercom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Outside Call on Hol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(LDK-300/300E/100/24, GDK-16/20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extension call, p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GDK-16/20W)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6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Retrieving a Held Outsid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 #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CO line number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: 001~200,  LDK-300E:001~4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100: 01~40,  LDK-24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20: 01~08,  162: 01~96, 100: 01~48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PII: 01~34, 16: 1~6, 20W: 1~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n SLT, you can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 #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again in case y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on't remember the held CO number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 LDK-300/100/24, you can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 *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 case you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on’t remember the held CO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Outside Call via CO Group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CO group number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/300E: 01~72,  LDK-100: 01~24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24/20: 01~08, 162: 01~48, 100: 01~24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PII: 01~09, 16/20W: 1~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Outside Call via CO Individual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 8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CO line number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: 001~200, LDK-300E: 001~4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100: 01~40,   LDK-24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20: 01~08, 162: 01~96, 100: 01~48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PII: 01~34, 16: 1~6, 20W: 1~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Re-directing an Incoming Cal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(Call Pick-u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you hear a phone ringing in your area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extension number of the ringing ph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Answering an Waiting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receive warning tone in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 the present call to take a new 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7040" y="7238880"/>
            <a:ext cx="230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 : The feature which is marked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is not available in GDK-16/20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54040" y="5769000"/>
            <a:ext cx="20368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0520" y="4924440"/>
            <a:ext cx="2030400" cy="743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3120" y="3639960"/>
            <a:ext cx="2017800" cy="943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04960" y="1050840"/>
            <a:ext cx="2703960" cy="63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 Follow Me call forward,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o to the forwarding station and 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5 4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station number that calls are to b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ward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authorization code of forwarded extens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The authorization code should be regist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efore "Follow Me" Call Forward can be set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extension number that will receive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 Not Disturb (D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5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ancel Do Not Disturb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9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9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is not available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5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5 9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in 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ang up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uttl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 extension user engaged in an internal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ternal call, should briefly press hook switch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old a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 holding party hears music on hold. (If equipped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second number of another internal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ternal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hen the second call is connected, the extensio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r may alternate the call between holding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ties by pressing hook switch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n, you may make a conference by pressing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iversal Night Ans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hen hearing an incoming signal on other phone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ight bel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UNA Access Code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9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69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be connected to an incoming call if it w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grammed as an UNA li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turning Call to Host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f your LG GDK is connected to another system, yo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n use this feature to transfer a call back to a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tension on the other syste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Your installer will tell you need the feature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hile connected to an extension call, pres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1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r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5 1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earing new dial tone from the other system, dia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 extension number on the required syste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hen the station answers, (See Screened Transfe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ak or hang up (See Unscreened Transfer) t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fer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066680"/>
            <a:ext cx="254952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Establishing a 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system allows you to set up a 3-way conferen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the desired party. (outside or internal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internal extensio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the other party answers, press hook 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wice in 2 second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All three parties are now connecte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essage Wa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o reply from a key station or extension busy ton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rom a SLT key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For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call forwar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- Unconditional,      2 - Busy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 - No answer calls,   4 - Busy/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 - Station off-net       # - Cancel previous forw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 - Incoming outside line to off-n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 - DVU forward for no answer-1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forward after 4sec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 - DVU forward for no answer-2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forward after  predefined tim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9 - DVU forward for bus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*. 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In GDK-16/20W,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nly 1DVIB Forward is avail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 +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: DVU forward for no answer/bus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*. 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In LDK-300/300E/100/24/20,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- Unconditional,        2 - Busy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 - No answer calls,     4 - Busy/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 - Station off-net, uncondit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 - Station off-net, no answ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 - Incoming outside line off-net (ATD on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make Call forward to VMIB, press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key af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ing call forward type (1~4)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station number to forward incoming calls t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2  : 100~291 /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00  : 100~235 /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FPII : 100~177 /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    : 100~115 / 61~6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20W : 100~133 / 61~6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   : 100~399 / 620~6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E : 1000~1599 / 620~6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100   : 100~227 /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24     : 10~41 / 620~6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20     : 10~37 / 620~6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cancel Call Forward, lift handset and 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In LDK-300/300E/100/24/20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5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,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5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76360" y="6272280"/>
            <a:ext cx="2033640" cy="966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55800" y="2305080"/>
            <a:ext cx="2185920" cy="92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092400"/>
            <a:ext cx="2057400" cy="1022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43040"/>
            <a:ext cx="2057400" cy="140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360" y="1055520"/>
            <a:ext cx="2311920" cy="65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page zon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ive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 to complete pag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Page Z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zones    : 4 9  (# 0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internal zones : 4 3 (# 4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1 : 4 0 1 (# 1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2 : 4 0 2 (# 2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: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 xx : 4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x x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2 : 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00 : 15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FPII: 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zone 1 : 4 6 (GDK-162/100/FPII on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zone 2 : 4 7 (GDK-162/100 on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external zones : 4 8 (# 3 in GDK-16/20W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Page Zones in LDK-300/100/2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zones             :  5 4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internal zones : 5 4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1 ~ 35   : 501~ 535 (LDK-300/300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1 ~ 15   : 5 0 1~ 5 1 5 (L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1 ~ 10   : 5 0 1~ 5 1 0 (LDK-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zone 1 ~ 3 : 545~ 547(LDK-300/300E/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zone 1          : 5 4 5 (LDK-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external zones : 5 4 8(LDK-300/300E/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eet Me Pag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hearing a paging announcemen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44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LDK-300/300E/100/24/20: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4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/20W: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Queuing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f you access a busy line, you may request the system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place you on hold, until the next line becomes id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confirmation tone when the call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ccept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Park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call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parking location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/300E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100   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24/20 : 601~6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2  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00   : 601~610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FPII  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/20W:601~6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Above V4.0 in GDK-16, Above V3.0 in GDK-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retrieve a parked call, dial parking loc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069920"/>
            <a:ext cx="259056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re-selected Messages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can choose a pre-selected message to be display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n the LCD of the phone calling your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Program Entry Cod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7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5 1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 LDK-300/300E/100/24/20, make hook-flash an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following number to leave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01~1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1 + (Time) LUNCH, RETURN HH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2 + (Date) ON VACATION, RETURN AT MM: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3 + (Time) OUT OF OFFICE RETURN TIME HH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4 + (Date) OUT OF OFFICE RETURN MM: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5               OUT OF OFFICE RETURN UNKNOW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6 + (External no.) CALL XX.... (17 digit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7 + (Extension you can be called) IN OFFICE, STA XXX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8 + (Time) IN A MEETING, RETURN TIME HH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9                AT HO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10                AT BRANCH OFFICE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erase a pre-selected message, lift handset an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 LDK-300/100/24/20, make hook-flash and dia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Voice Announc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ime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'll hear time prompt, "Time is 00:00.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ate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date prompt, "Date is July, 20th.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Extension Number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'll hear extension number promp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"This extension is XXXX.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Record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for No Answer Forward)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usy Forward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cord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Playing Back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for No Answer Forward)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usy Forward). (Your recorded messag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elet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5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for No Answer Forward)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＊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usy Forward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(Your message has now been delete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4920" y="1058760"/>
            <a:ext cx="2211480" cy="59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Extension Status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'll hear items listed below. (a~h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)  Extension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)  Handsfree/Tone/Privac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)  Listed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)  Wake-up time AM or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)  Do Not Distur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)   Forwarded to extension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)  Forwarded to speed bin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)  Locked (Temporary Class of Service Charg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)  Class of Service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Recording Paging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cord your paging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Playing Back Paging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hear the recorded Messag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recorded message is play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(The message is deleted automatically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activate Call Forward to DVU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(Select DVU forward type for N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 or Busy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deactivate Call Forward to DVU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For GDK-16/20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Record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cord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elet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  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hear the recorded Messag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ime &amp; date prompt for the recorded message i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ovided then voice message is play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(The message is deleted automatically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2880" y="1058760"/>
            <a:ext cx="216432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 LDK-300/300E/100/24,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Date &amp; Time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6 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 2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'll hear date &amp; time prompt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" Date is March, 20th and Time is 00:00.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xtension Number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 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'll hear extension number promp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"This extension is XXXX.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xtension Status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 4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'll hear items listed below. (a~h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)  Extension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)  Intercom Answer M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)  Listed message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)  Wake-up time XX:XX AM or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)  Do Not Distur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)   Forwarded to extension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)  Forwarded to speed bin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)  Queued CO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)   Locked (Temporary Class of Service Charg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)   COS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Record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 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rd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Delet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 6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Recording Paging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 5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rd paging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Delet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 6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Deleting Paging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 7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33760" y="1371600"/>
            <a:ext cx="2319120" cy="4648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520" y="1042920"/>
            <a:ext cx="2221200" cy="63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activate Call Forward to VMIB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Call Forward type number (1~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deactivate Call Forward to VMIB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hear the recorded voice Messag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 5 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message number prompt and  the first vo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essage is played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delete current voice message and hear nex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essage, dial #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save current voice message and hear 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essage, dial #2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hear current voice message,  dial #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rogramming Authorization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5 digits as authorization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rogramming Your Nam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 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/24/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nter your name using the same codes as th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f keyset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 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Entering an Account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identify a call, system provides the user with a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ccount code field in the Call Logging printout b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ntering an account code while on an outside call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dialing or during a conversation with 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party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LDK-300/300E/100/24/20) an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ccount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An account code can be up to 12 digits.)</a:t>
            </a:r>
            <a:br>
              <a:rPr sz="700"/>
            </a:b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ontinue conversation and hang up to finish th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andset Off-hook Alarm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hould the handset be left off the cradle unattended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or any length of time,  the user will receive a hi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itched signal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cancel the signal,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83360" y="1081080"/>
            <a:ext cx="2399040" cy="49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700" spc="-1" strike="noStrike">
                <a:solidFill>
                  <a:srgbClr val="000000"/>
                </a:solidFill>
                <a:latin typeface="Arial"/>
              </a:rPr>
              <a:t>Following features are only available with LDK/GD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700" spc="-1" strike="noStrike">
                <a:solidFill>
                  <a:srgbClr val="000000"/>
                </a:solidFill>
                <a:latin typeface="Arial"/>
              </a:rPr>
              <a:t>Hotel S/W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Baby Listening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is feature allows a guest to monitor his room from an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ther party of the hotel. You can hear the room which i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et baby listening but the room will not be disturb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activate baby listening at guest’s room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guest’s own room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cancel baby listening at guest’s room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operate baby listening from any other phone in th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system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guest’s own room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ND tone will be heard and dial the guest’s own room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umber aga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confirmation tone, baby listening is operat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aid Status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Maid can update the maid status of any roo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register “Cleaned” at a guest stati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)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Program Access Cod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*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LDK-300/300E/100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register “Dirty” at a guest stati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SLT PGM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9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#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LDK-300/300E/1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New Cabina Cal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t allows to temporarily override toll restriction and mak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 call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)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Program Access Cod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1 8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2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/300E/1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nter the password (5 digits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 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ccessing CO line, dial tone will be hea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25040" y="75517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5T10:29:19Z</dcterms:created>
  <dc:creator>황재희</dc:creator>
  <dc:description/>
  <dc:language>en-US</dc:language>
  <cp:lastModifiedBy>PlygavkaSA</cp:lastModifiedBy>
  <cp:lastPrinted>2001-02-02T03:25:28Z</cp:lastPrinted>
  <dcterms:modified xsi:type="dcterms:W3CDTF">2005-01-14T11:56:56Z</dcterms:modified>
  <cp:revision>116</cp:revision>
  <dc:subject/>
  <dc:title>SLT Features</dc:title>
</cp:coreProperties>
</file>